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118-3BC7-4BB9-9999-A336C6D9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AA5-1113-4DB1-AB51-C58CC66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676-8F1B-4050-9A37-EA8F505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8E2-2627-438F-8EC2-FDE9DBEC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F66F-FC04-4A72-8EB0-2398A002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F33-264D-43BF-8F04-211FD62F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16CF-0710-4C1D-AEE3-82DADB9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73AC-521D-4578-8403-FEB9C9CF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3AA7-65C1-4C25-8806-1BA9101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2FFB-5E7C-45B9-A2EF-9B3BF4C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7C43-3035-4EC3-94C4-B893BC0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245-1C38-4F68-B1CB-CBD95C4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A892-82C0-4733-8C27-6BF8672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D56C-5818-4F8D-8D74-75B1488E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BE5D-F7AD-4466-97F5-B2516B9A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984-3E0F-4330-AD81-C00EDE74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6976-0A0B-4CA8-88AF-2237ED3A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BDC-7267-4E19-A26F-C20D7F76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908-2B5A-437D-952C-8995E20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EA8-6D40-4CC8-B0D9-BEE12CE1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1EB-F638-44DD-A77F-5CA3DD8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8FF-85FB-4DD0-9793-BC3DE62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CA7-0069-4E38-AA32-C293549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142-17F5-4ACC-AFEB-4F63DEA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unstler Script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0C2C-6349-47ED-B08A-75759C32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unstler Script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0D6B-6B62-43C7-B5BA-2B8216E507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waytorussia.net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morrisonworldnews.com/wp-content/uploads/2010/08/Russia-donates-250-buses-to-Nicaragua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farm4.static.flickr.com/3096/3162652288_15abcce6f8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rush Script MT"/>
              </a:rPr>
              <a:t>R</a:t>
            </a:r>
            <a:r>
              <a:rPr b="0" lang="en-US" sz="5400" spc="-1" strike="noStrike">
                <a:solidFill>
                  <a:srgbClr val="ff33cc"/>
                </a:solidFill>
                <a:latin typeface="Brush Script MT"/>
              </a:rPr>
              <a:t>u</a:t>
            </a:r>
            <a:r>
              <a:rPr b="0" lang="en-US" sz="5400" spc="-1" strike="noStrike">
                <a:solidFill>
                  <a:srgbClr val="f56f0b"/>
                </a:solidFill>
                <a:latin typeface="Brush Script MT"/>
              </a:rPr>
              <a:t>s</a:t>
            </a:r>
            <a:r>
              <a:rPr b="0" lang="en-US" sz="5400" spc="-1" strike="noStrike">
                <a:solidFill>
                  <a:srgbClr val="ffff00"/>
                </a:solidFill>
                <a:latin typeface="Brush Script MT"/>
              </a:rPr>
              <a:t>s</a:t>
            </a:r>
            <a:r>
              <a:rPr b="0" lang="en-US" sz="5400" spc="-1" strike="noStrike">
                <a:solidFill>
                  <a:srgbClr val="1ec026"/>
                </a:solidFill>
                <a:latin typeface="Brush Script MT"/>
              </a:rPr>
              <a:t>i</a:t>
            </a:r>
            <a:r>
              <a:rPr b="0" lang="en-US" sz="5400" spc="-1" strike="noStrike">
                <a:solidFill>
                  <a:srgbClr val="007e39"/>
                </a:solidFill>
                <a:latin typeface="Brush Script MT"/>
              </a:rPr>
              <a:t>a</a:t>
            </a:r>
            <a:r>
              <a:rPr b="0" lang="en-US" sz="5400" spc="-1" strike="noStrike">
                <a:solidFill>
                  <a:srgbClr val="0090e5"/>
                </a:solidFill>
                <a:latin typeface="Brush Script MT"/>
              </a:rPr>
              <a:t>n</a:t>
            </a:r>
            <a:r>
              <a:rPr b="0" lang="en-US" sz="5400" spc="-1" strike="noStrike">
                <a:solidFill>
                  <a:srgbClr val="29ffff"/>
                </a:solidFill>
                <a:latin typeface="Brush Script MT"/>
              </a:rPr>
              <a:t> </a:t>
            </a:r>
            <a:r>
              <a:rPr b="0" lang="en-US" sz="5400" spc="-1" strike="noStrike">
                <a:solidFill>
                  <a:srgbClr val="004472"/>
                </a:solidFill>
                <a:latin typeface="Brush Script MT"/>
              </a:rPr>
              <a:t>M</a:t>
            </a:r>
            <a:r>
              <a:rPr b="0" lang="en-US" sz="5400" spc="-1" strike="noStrike">
                <a:solidFill>
                  <a:srgbClr val="7030a0"/>
                </a:solidFill>
                <a:latin typeface="Brush Script MT"/>
              </a:rPr>
              <a:t>o</a:t>
            </a:r>
            <a:r>
              <a:rPr b="0" lang="en-US" sz="5400" spc="-1" strike="noStrike">
                <a:solidFill>
                  <a:srgbClr val="6a025b"/>
                </a:solidFill>
                <a:latin typeface="Brush Script MT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Brush Script MT"/>
              </a:rPr>
              <a:t>e</a:t>
            </a:r>
            <a:r>
              <a:rPr b="0" lang="en-US" sz="5400" spc="-1" strike="noStrike">
                <a:solidFill>
                  <a:srgbClr val="c4c4c4"/>
                </a:solidFill>
                <a:latin typeface="Brush Script MT"/>
              </a:rPr>
              <a:t>m</a:t>
            </a:r>
            <a:r>
              <a:rPr b="0" lang="en-US" sz="5400" spc="-1" strike="noStrike">
                <a:solidFill>
                  <a:srgbClr val="6d6d6d"/>
                </a:solidFill>
                <a:latin typeface="Brush Script MT"/>
              </a:rPr>
              <a:t>e</a:t>
            </a:r>
            <a:r>
              <a:rPr b="0" lang="en-US" sz="5400" spc="-1" strike="noStrike">
                <a:solidFill>
                  <a:srgbClr val="161616"/>
                </a:solidFill>
                <a:latin typeface="Brush Script MT"/>
              </a:rPr>
              <a:t>n</a:t>
            </a:r>
            <a:r>
              <a:rPr b="0" lang="en-US" sz="5400" spc="-1" strike="noStrike">
                <a:solidFill>
                  <a:srgbClr val="002060"/>
                </a:solidFill>
                <a:latin typeface="Brush Script MT"/>
              </a:rPr>
              <a:t>t</a:t>
            </a:r>
            <a:r>
              <a:rPr b="0" lang="en-US" sz="5400" spc="-1" strike="noStrike">
                <a:solidFill>
                  <a:srgbClr val="29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By: </a:t>
            </a:r>
            <a:r>
              <a:rPr b="0" lang="en-US" sz="3200" spc="-1" strike="noStrike">
                <a:solidFill>
                  <a:srgbClr val="f46414"/>
                </a:solidFill>
                <a:latin typeface="Gigi"/>
              </a:rPr>
              <a:t>Sai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igi"/>
              </a:rPr>
              <a:t>Allu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Gigi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gi"/>
              </a:rPr>
              <a:t>Nhi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Gigi"/>
              </a:rPr>
              <a:t>Tru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igi"/>
              </a:rPr>
              <a:t>Period </a:t>
            </a:r>
            <a:r>
              <a:rPr b="0" lang="en-US" sz="3200" spc="-1" strike="noStrike">
                <a:solidFill>
                  <a:srgbClr val="c4c4c4"/>
                </a:solidFill>
                <a:latin typeface="Gigi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d6d"/>
                </a:solidFill>
                <a:latin typeface="Gigi"/>
              </a:rPr>
              <a:t>Enjoy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MS900054298[1].mid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277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Ways of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B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Ca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Subw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Bicy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Walk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Trai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Carriages pulled by hors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Inland Waterw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horsey"/>
          <p:cNvPicPr/>
          <p:nvPr/>
        </p:nvPicPr>
        <p:blipFill>
          <a:blip r:embed="rId1"/>
          <a:stretch/>
        </p:blipFill>
        <p:spPr>
          <a:xfrm>
            <a:off x="4724280" y="3581280"/>
            <a:ext cx="4419720" cy="3038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train_front"/>
          <p:cNvPicPr/>
          <p:nvPr/>
        </p:nvPicPr>
        <p:blipFill>
          <a:blip r:embed="rId2"/>
          <a:stretch/>
        </p:blipFill>
        <p:spPr>
          <a:xfrm>
            <a:off x="6629400" y="685800"/>
            <a:ext cx="2127240" cy="228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Bradley Hand ITC"/>
              </a:rPr>
              <a:t>Disadvan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orte"/>
              </a:rPr>
              <a:t>Transportation takes a long and is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orte"/>
              </a:rPr>
              <a:t>Goes through the Ural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orte"/>
              </a:rPr>
              <a:t>Inland waterways are important, but many long rivers drain north into the frigid Arctic Ocean and freeze in the w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Snap ITC"/>
              </a:rPr>
              <a:t>Problem of the Land that Affects Transport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Russia is very large, so Trans-Siberian Railroad costs a lot of money. Especially from Moscow to Vladivost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Has very few roa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In the east part it is very mountai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russian-underground-metro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Segoe Print"/>
              </a:rPr>
              <a:t>Transportation in Mosco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ijaya"/>
                <a:ea typeface="Vijaya"/>
              </a:rPr>
              <a:t>The metro is all one zone there is no special z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ijaya"/>
                <a:ea typeface="Vijaya"/>
              </a:rPr>
              <a:t>The metro is open from 5:20 A.M to 1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ijaya"/>
                <a:ea typeface="Vijaya"/>
              </a:rPr>
              <a:t>The rush hours for the metro in Moscow are 8:00 A.M. to 9:00 A.M. and 17:00 P.M. to 19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6414"/>
                </a:solidFill>
                <a:latin typeface="Juice ITC"/>
              </a:rPr>
              <a:t>Getting around in Moscow by metro and public transport |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Juice ITC"/>
                <a:hlinkClick r:id="rId2"/>
              </a:rPr>
              <a:t>www.waytorussia.net/</a:t>
            </a:r>
            <a:r>
              <a:rPr b="1" lang="en-US" sz="3200" spc="-1" strike="noStrike">
                <a:solidFill>
                  <a:srgbClr val="f56f0b"/>
                </a:solidFill>
                <a:latin typeface="Juice ITC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que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Content Placeholder 3" descr="russian transportation.jpg"/>
          <p:cNvPicPr/>
          <p:nvPr/>
        </p:nvPicPr>
        <p:blipFill>
          <a:blip r:embed="rId1"/>
          <a:stretch/>
        </p:blipFill>
        <p:spPr>
          <a:xfrm>
            <a:off x="5410080" y="2438280"/>
            <a:ext cx="3733920" cy="4419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Russian trains 4"/>
          <p:cNvPicPr/>
          <p:nvPr/>
        </p:nvPicPr>
        <p:blipFill>
          <a:blip r:embed="rId2"/>
          <a:stretch/>
        </p:blipFill>
        <p:spPr>
          <a:xfrm>
            <a:off x="0" y="1666800"/>
            <a:ext cx="5334120" cy="519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russian_waterways_ship_2pete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ffff"/>
                </a:solidFill>
                <a:latin typeface="French Script MT"/>
              </a:rPr>
              <a:t>Water Transportation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ec026"/>
                </a:solidFill>
                <a:latin typeface="Gabriola"/>
              </a:rPr>
              <a:t>Many Russian rivers run from south to north making their use difficult during the winter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ec026"/>
                </a:solidFill>
                <a:latin typeface="Gabriola"/>
              </a:rPr>
              <a:t>During the winter most of the ports are covered in snow and ice which makes it hard to move aroun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ec026"/>
                </a:solidFill>
                <a:latin typeface="Gabriola"/>
              </a:rPr>
              <a:t>When trading, they must transport their goods another 200 miles to reach the nearest part of inland Russia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MS900069706[1].wav" descr=""/>
          <p:cNvPicPr/>
          <p:nvPr/>
        </p:nvPicPr>
        <p:blipFill>
          <a:blip r:embed="rId1"/>
          <a:stretch/>
        </p:blipFill>
        <p:spPr>
          <a:xfrm>
            <a:off x="5241960" y="6400800"/>
            <a:ext cx="549360" cy="76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throughput_of_russian_ports_in_9_months_of_2010_increased_by_67__to_39332_million_tonnes"/>
          <p:cNvPicPr/>
          <p:nvPr/>
        </p:nvPicPr>
        <p:blipFill>
          <a:blip r:embed="rId2"/>
          <a:stretch/>
        </p:blipFill>
        <p:spPr>
          <a:xfrm>
            <a:off x="0" y="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police_car_2"/>
          <p:cNvPicPr/>
          <p:nvPr/>
        </p:nvPicPr>
        <p:blipFill>
          <a:blip r:embed="rId3"/>
          <a:stretch/>
        </p:blipFill>
        <p:spPr>
          <a:xfrm>
            <a:off x="1676520" y="2057400"/>
            <a:ext cx="4667040" cy="3228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1"/>
          <p:cNvPicPr/>
          <p:nvPr/>
        </p:nvPicPr>
        <p:blipFill>
          <a:blip r:embed="rId4"/>
          <a:stretch/>
        </p:blipFill>
        <p:spPr>
          <a:xfrm>
            <a:off x="0" y="4681440"/>
            <a:ext cx="3271680" cy="217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48200" y="4370400"/>
            <a:ext cx="3295800" cy="24876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3276720" y="228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Kristen ITC"/>
              </a:rPr>
              <a:t>Pictures!!!!!!!!!! </a:t>
            </a:r>
            <a:endParaRPr b="0" lang="en-US" sz="2800" spc="-1" strike="noStrike">
              <a:solidFill>
                <a:srgbClr val="ffffff"/>
              </a:solidFill>
              <a:latin typeface="Kunstler Script"/>
            </a:endParaRPr>
          </a:p>
        </p:txBody>
      </p:sp>
    </p:spTree>
  </p:cSld>
  <p:transition>
    <p:split dir="in" orient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5.55556E-006 L -0.29167 0.34444 E">
                                      <p:cBhvr>
                                        <p:cTn id="17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35 -0.32223 E">
                                      <p:cBhvr>
                                        <p:cTn id="18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8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390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2" descr="Aeroflot planes / photo by Teliko82@Flick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3048120" y="1066680"/>
            <a:ext cx="371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242" name="Text Box 18"/>
          <p:cNvSpPr/>
          <p:nvPr/>
        </p:nvSpPr>
        <p:spPr>
          <a:xfrm rot="2349000">
            <a:off x="-568440" y="4494960"/>
            <a:ext cx="446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Juice ITC"/>
              </a:rPr>
              <a:t>      </a:t>
            </a:r>
            <a:r>
              <a:rPr b="0" lang="en-US" sz="6600" spc="-1" strike="noStrike">
                <a:solidFill>
                  <a:srgbClr val="0000ff"/>
                </a:solidFill>
                <a:latin typeface="Juice ITC"/>
              </a:rPr>
              <a:t>The End </a:t>
            </a:r>
            <a:r>
              <a:rPr b="0" lang="en-US" sz="66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6600" spc="-1" strike="noStrike">
                <a:solidFill>
                  <a:srgbClr val="0000ff"/>
                </a:solidFill>
                <a:latin typeface="Juice ITC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791320" y="4191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pic>
        <p:nvPicPr>
          <p:cNvPr id="244" name="MS910220041[1]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6"/>
          <p:cNvSpPr/>
          <p:nvPr/>
        </p:nvSpPr>
        <p:spPr>
          <a:xfrm rot="1660200">
            <a:off x="5871600" y="287640"/>
            <a:ext cx="228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5aeff"/>
                </a:solidFill>
                <a:latin typeface="JasmineUPC"/>
                <a:ea typeface="JasmineUPC"/>
              </a:rPr>
              <a:t>Hope you enjoyed it </a:t>
            </a:r>
            <a:r>
              <a:rPr b="0" lang="en-US" sz="5400" spc="-1" strike="noStrike">
                <a:solidFill>
                  <a:srgbClr val="35aeff"/>
                </a:solidFill>
                <a:latin typeface="Wingdings"/>
                <a:ea typeface="Wingdings"/>
              </a:rPr>
              <a:t></a:t>
            </a:r>
            <a:r>
              <a:rPr b="0" lang="en-US" sz="5400" spc="-1" strike="noStrike">
                <a:solidFill>
                  <a:srgbClr val="35aeff"/>
                </a:solidFill>
                <a:latin typeface="JasmineUPC"/>
                <a:ea typeface="JasmineUPC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Kunstler Script"/>
            </a:endParaRPr>
          </a:p>
        </p:txBody>
      </p:sp>
    </p:spTree>
  </p:cSld>
  <p:transition>
    <p:push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67989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18:07Z</dcterms:created>
  <dc:creator>Admimistrator</dc:creator>
  <dc:description/>
  <dc:language>en-US</dc:language>
  <cp:lastModifiedBy>sai pulukuri</cp:lastModifiedBy>
  <dcterms:modified xsi:type="dcterms:W3CDTF">2010-12-21T20:51:28Z</dcterms:modified>
  <cp:revision>23</cp:revision>
  <dc:subject/>
  <dc:title>Russian Movement</dc:title>
</cp:coreProperties>
</file>